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BEF8E-C13B-4785-92C3-96B1D186E6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D996A-4FFF-4A22-884E-EE77D578BB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E5663-4A5C-4662-BF7B-4BF0D511F0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C8651-9ADF-4262-A801-D9CFCE1A26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BE58AF-4029-49AA-BEF2-6795CE12F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144FDA-716E-47E2-BCD8-42F068743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756980-EC76-47DD-A80F-07B3A095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78567C-BCD2-45D6-A345-E369DE074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7DE1F5-F326-4028-A077-7C60F86C9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17730B-8D35-420A-A144-4F234AA02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F068E7-611C-478C-8DC1-DE10E0E6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F3984-6F19-40F8-A5D5-7E2C972045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57E3B6-B879-4B13-874F-145DD71B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94AEF3-43E6-4260-934B-3CD286B0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D6C5A2-4A65-446B-B633-5C5B28777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7F4C8F-89B9-45B0-920C-9B53CAEF0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7299DB-F856-4E5B-901E-6F73DC64D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3DB40-3410-4B76-B323-C7724EFCD3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69AFF-8348-4ECE-8F0C-53EA34FDAA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74DE6-BF4B-4605-A5DE-53AE91210B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756C3-D4C3-41CF-9EC7-FA7607443F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D82CF-87CB-4B85-AC41-2B07B9FB92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765D8-BDF9-4EA4-8FFB-1A2D66C8BF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2EAE7-D23A-4CDA-9F08-85F4A97C2B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A14A5-6B17-465C-985D-E43E6B94D78E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977E6-24ED-4FB1-88D2-14B798F93D86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9D30F-ACD6-424D-AC1A-856E3FEDB2A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5DE0A-BE33-4732-A1D4-888F027BD5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6AE06-638B-43BA-AE15-39F07D3863F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08C02-AC9D-428C-8C25-DDD9E326BA7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80326-9CDD-43CD-AC40-14BAE8B15D6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9F577-610D-4873-9AFB-2D5EFE55CAE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B340A-ABB2-4E0D-AEF9-474086762D7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070DA-4F98-4A96-B45D-93F3599306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B8A7B-01E4-4898-8AEF-9535073A43F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BA056-8024-49CE-A649-4BC2DDB8A60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EE1C5-0EBC-4D36-BCFF-B9C6B3C2D2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0B8FF-7C0A-480F-853A-2A39A9BD3E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27F80-9749-47E9-8949-0BF8B01FE85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7B8A2-9318-4EA1-9E39-EDC5BA1F9D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05T23:33:15Z</dcterms:modified>
  <cp:revision>164</cp:revision>
  <dc:subject/>
  <dc:title>minSpline: An R Package For Minimal Knot Splines</dc:title>
</cp:coreProperties>
</file>