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96B652-048A-42B9-8DF0-C52FA41AD4D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250DB2-BA49-4B29-BD3A-87DF8338FB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758D05-CE20-4062-AD9F-56CE8CDAF5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9D990A-BD51-4FC2-9ABB-7325C9683CF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536182-90CF-4B1E-B8EE-80296E7D7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ABFD28-D345-4488-BCCB-96B3CE234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D4D331-D808-4969-A442-D79481549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FF3B29-2B7F-4AF1-B1E3-BFB495B81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37B8B7-7393-4AA8-841B-4168D796C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6C6189-B4F8-41D6-A4A8-2FCC8CF2C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E0573B-8581-42D4-ABEA-82A1D854A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063C18-6085-4252-A930-D0D79ADD01A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C770C4-AC9A-40FD-8A5F-0CD8C7A32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ED3E35-5B44-454D-9A21-6EC49FCB6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AAA49B-4078-4318-BDB2-2AC209674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C80CF6-FFBB-4DE7-B809-FE5E5F12C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F77DAB-C3D3-4CC5-8C66-B7515D0DB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A0A7D6-F4AC-46F2-8463-FCC199BEC89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D81630-424F-4418-99C3-07081A98D2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4D977C-CC84-40BF-AB94-9FFDA037069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C9AE43-65D2-44FD-B780-DB56F022BEE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0E873E-FDA1-4AA7-A651-B2C90EE4B6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63CD09-BB29-4CEC-A503-FC33C7FBFE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84DFEE-1105-4F1F-8C11-90A25E037A2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227D1-1903-4390-B7B6-AAE5A47A2127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E2A16-2352-4DBC-903E-761BE5A51D14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63B44E-5372-45C5-A537-34197A34507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7A95DC-02A6-4D7C-81A9-ED995A40318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39A948-2307-4E17-A29C-007AFB51031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2D87A9-E3C7-431A-A6D6-3B99EA0CB5C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B33AEE-EBD0-4C11-98F4-5A74F6A9613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8D4AF8-E445-4701-9CCA-870D49A11B5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02473C-1A0B-4EBB-AD98-B299C847E0E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, smooth.spline functions in ‘stats’ packa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pline – smoothing splin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supporting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C5EACD-EDAE-4DFB-9D70-35A1C5D407A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A1EB05-58CA-4A9F-8B79-AFDCF7A09B8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F23024-65BE-47B1-97AA-358423955CF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, df=2.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8293F2-052F-4BF0-84B8-377F6AF803E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F173BD-98DE-4F2A-96CA-93BB2A69F23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FBCFA5-31CE-4FD5-8458-2D201B5EFDE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58906D-BC9E-43A4-8DB5-A8158377261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19T15:53:45Z</dcterms:modified>
  <cp:revision>169</cp:revision>
  <dc:subject/>
  <dc:title>minSpline: An R Package For Minimal Knot Splines</dc:title>
</cp:coreProperties>
</file>