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74999"/>
        <c:axId val="38960802"/>
      </c:barChart>
      <c:catAx>
        <c:axId val="69574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0802"/>
        <c:crosses val="autoZero"/>
        <c:auto val="1"/>
        <c:lblAlgn val="ctr"/>
        <c:lblOffset val="100"/>
        <c:noMultiLvlLbl val="0"/>
      </c:catAx>
      <c:valAx>
        <c:axId val="38960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74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04A-D257-49E2-A01F-A95C53ED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9CB-A266-42F4-A777-78389FB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1FE-7E9F-4FAC-B7F7-FEAFE93C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6FD-7E7D-4CE7-A847-4FC0D058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7D0-8041-4A95-801B-8A72962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59D-CFEF-4B50-AC27-57927CEF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10B-EAFE-4952-B231-311F2111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EE4-52B9-46A4-A643-104FC4E3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D17-3F8E-4207-9C27-82E7C15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F9E-98FB-40E0-9462-B58232AA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09C-7003-4975-A3EF-238F250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241-F59A-4D27-9C35-98E336F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E2157-485D-4478-A772-99E59C27F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