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87698"/>
        <c:axId val="64468361"/>
      </c:barChart>
      <c:catAx>
        <c:axId val="53287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68361"/>
        <c:crosses val="autoZero"/>
        <c:auto val="1"/>
        <c:lblAlgn val="ctr"/>
        <c:lblOffset val="100"/>
        <c:noMultiLvlLbl val="0"/>
      </c:catAx>
      <c:valAx>
        <c:axId val="64468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7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8CC-0559-455B-A07B-A9292060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A03-D186-4D4B-BD30-C8655D1E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F8A-2799-497D-BAD6-46A19AF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892-6B3A-4D28-8AE2-00C55910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20B-E790-4F43-81B1-1660DBF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150-D2E1-4B27-A946-63180CF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1FE-17B8-494E-B91C-D737BC3B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A19-FD17-4429-BED8-23A72939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D44-3A1D-4134-AD01-C652C390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21E-F723-40AE-9D6D-475B639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D31-17E7-4E5F-8009-205D589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667-2E3B-487A-BA38-263FC07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98A1-F0C4-43CD-A7C5-F8FC92EFB0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