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65674"/>
        <c:axId val="52369393"/>
      </c:barChart>
      <c:catAx>
        <c:axId val="73865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69393"/>
        <c:crosses val="autoZero"/>
        <c:auto val="1"/>
        <c:lblAlgn val="ctr"/>
        <c:lblOffset val="100"/>
        <c:noMultiLvlLbl val="0"/>
      </c:catAx>
      <c:valAx>
        <c:axId val="52369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65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950-B4C4-4952-952F-962C65FA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4D3-CFF2-4BF7-B7B0-A9FFE793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71A-F12D-4B20-B63F-44E78962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A00-8D8E-47AF-9615-48DFC542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2A8-8791-4274-B1D0-9A7B6489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188-27EE-4D61-ACE6-A47B05FC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AE5-C1DA-4BF7-9036-F6DEC713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4A4-535A-4826-BACF-FBADDA8F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456-1895-4A78-98C4-3C0EF24F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0E0-4CE7-4047-8034-FEA00E0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624-F94B-4FFF-95A6-03EC23FF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62C-038A-4C69-89FF-012DF65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CFECF-E5AC-4684-A5E0-FBA3073FDC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