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39610"/>
        <c:axId val="89894027"/>
      </c:barChart>
      <c:catAx>
        <c:axId val="992396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94027"/>
        <c:crosses val="autoZero"/>
        <c:auto val="1"/>
        <c:lblAlgn val="ctr"/>
        <c:lblOffset val="100"/>
        <c:noMultiLvlLbl val="0"/>
      </c:catAx>
      <c:valAx>
        <c:axId val="89894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396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B32-9988-4C42-93AE-B2F44914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8771-1B64-413B-B767-24575EA7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20FF-9160-43FB-B7BE-4DE987E1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E4A-0B97-4F94-BC5F-5D671177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5D39-7EF0-46AC-89D1-76D19751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1CC-2984-4200-B68A-89A3AD1C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96EC-7108-49F0-AE44-1377193A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F6D3-FAE4-4A71-B05C-0B1A5B91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40BB-8113-4C31-AB4E-C86581DD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7DB-3BE8-4304-BAFB-FB0A8553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D335-24BB-4C9D-AB52-C0A1F503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0422-1934-435F-B8C2-0E7497EA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D0818-4BD4-4E00-A8B2-6394E4D44A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