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05143"/>
        <c:axId val="61226566"/>
      </c:barChart>
      <c:catAx>
        <c:axId val="57605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26566"/>
        <c:crosses val="autoZero"/>
        <c:auto val="1"/>
        <c:lblAlgn val="ctr"/>
        <c:lblOffset val="100"/>
        <c:noMultiLvlLbl val="0"/>
      </c:catAx>
      <c:valAx>
        <c:axId val="61226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05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8EB-6CDB-4C73-A7A3-7B5DCCD5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7A8-92D8-4267-8B1F-0673287B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E37-3FD8-4E41-A3C1-E92BFE0E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9F2-DE33-461C-81A5-4526407C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94C-1A5C-4298-B95D-A0E638BD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EA4-D199-48A4-95B7-AFFC30D8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649-6D50-483B-9127-D09EC575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700-9A94-4E56-8914-11EBAD29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235-0662-4EBA-AE06-FF34005B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2BE-DEF0-4EC3-89EB-FE66F350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98A-7A17-45F6-98C5-55D360CC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7B6-DBB4-4561-A0D8-C4237B7F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E0A94-A9C7-4101-864D-ACAF556184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