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55009"/>
        <c:axId val="34861177"/>
      </c:barChart>
      <c:catAx>
        <c:axId val="3175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61177"/>
        <c:crosses val="autoZero"/>
        <c:auto val="1"/>
        <c:lblAlgn val="ctr"/>
        <c:lblOffset val="100"/>
        <c:noMultiLvlLbl val="0"/>
      </c:catAx>
      <c:valAx>
        <c:axId val="34861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5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9A4-66DB-4BB7-83F3-AE37949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CBB-70C9-4B9A-B2E2-5B7F4A3D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F63-EF6D-4550-A0DF-A563BFB9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A28-6787-4C1E-A30A-A45F75B2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233-A8C3-4A52-8127-1024FAD4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D0A-8282-44F7-A5C7-CFD2380B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DC7-9DB3-4184-8A88-AC29344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BBD-F650-46B6-ADDB-7141BC66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2B4-49A5-45C3-83EA-8B4A0BD6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47A-ED56-41DC-85D9-02F55E7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3F4-9BEC-4DA8-A5D5-DDC00E3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D05-748E-4D9A-9226-4D69890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A9115-A7A3-40F2-B560-85B0C8912B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