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58994"/>
        <c:axId val="97770226"/>
      </c:barChart>
      <c:catAx>
        <c:axId val="16558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0226"/>
        <c:crosses val="autoZero"/>
        <c:auto val="1"/>
        <c:lblAlgn val="ctr"/>
        <c:lblOffset val="100"/>
        <c:noMultiLvlLbl val="0"/>
      </c:catAx>
      <c:valAx>
        <c:axId val="97770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8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4B6-5D10-4E49-9494-B723BEE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1DC-91A4-496C-8744-1F2C8CB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010-4F70-4E13-98AB-8457F494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84B-3E22-420C-ADB1-771B3893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486-D5CF-4A32-9C4D-83872362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FCB-3596-4466-B79F-234AE4F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E45-12B4-4643-9B32-4E3D2B9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7F1-4C2A-4092-8AE8-3E8DF50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DF8-9852-4184-8FEC-1070051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71E-9F08-4070-B617-9069B83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2B5-F0F3-434A-B7A9-A77DFAB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183-734D-4B95-897D-94859BD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C334-6663-44A1-B5C4-38DEE3E54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