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8478308"/>
        <c:axId val="86937830"/>
      </c:barChart>
      <c:catAx>
        <c:axId val="98478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37830"/>
        <c:crosses val="autoZero"/>
        <c:auto val="1"/>
        <c:lblAlgn val="ctr"/>
        <c:lblOffset val="100"/>
        <c:noMultiLvlLbl val="0"/>
      </c:catAx>
      <c:valAx>
        <c:axId val="869378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478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CE61-D3E4-4089-932A-FDDFA5CC6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BB7B2-373C-4046-A1C4-07D978C23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E025-F583-4A8B-84C0-509699729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90BFD-0A33-4164-AB60-E5D30E735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87DE-139C-4F23-B2F8-8FC2A5289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5F36-C143-4BB9-A2DC-B91404D9AB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C69AE-CAF1-433E-93DC-CA872EB2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A6479-76DE-4C88-920D-CA0717E5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C2B1-F3FC-44AC-866D-4B89BD004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E5C7-5EBA-4915-B511-B3E4D42D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91A4C-9AB9-4C7A-9C15-559FED35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02C5-99CB-49B8-A86C-9D9F8A323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FE4271-C806-4C54-9D17-A8B8B5194B7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