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289750"/>
        <c:axId val="29419659"/>
      </c:barChart>
      <c:catAx>
        <c:axId val="76289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419659"/>
        <c:crosses val="autoZero"/>
        <c:auto val="1"/>
        <c:lblAlgn val="ctr"/>
        <c:lblOffset val="100"/>
        <c:noMultiLvlLbl val="0"/>
      </c:catAx>
      <c:valAx>
        <c:axId val="2941965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289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0E4A-2300-4BD3-B1BE-A8BC65390B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13EB-74E0-4297-AE02-A19A976D4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2C814-DD1B-42C2-9347-B93544694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A69-182B-4621-9E1E-48DF7FF7C5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2EFB-D393-47D8-AABD-A7EE5F00C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EE84-71B2-4732-8DD2-DAB80C62F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1DA6E-1AA7-4B8E-93C1-1EC092EE3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AFA73-A04A-4C66-BA7B-E6B75FBD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0AED-BB3B-45C9-BA8A-0A05FA33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1D000-2E2A-4FA9-B4BE-613675694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2BB9-6941-4E63-9ED6-1BB1DB4B5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0364B-06A8-4375-B7FF-D5C2B299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3AF68D-B628-43E2-8A07-A9E74D0A0AA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