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1346"/>
        <c:axId val="73632667"/>
      </c:barChart>
      <c:catAx>
        <c:axId val="3061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2667"/>
        <c:crosses val="autoZero"/>
        <c:auto val="1"/>
        <c:lblAlgn val="ctr"/>
        <c:lblOffset val="100"/>
        <c:noMultiLvlLbl val="0"/>
      </c:catAx>
      <c:valAx>
        <c:axId val="73632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1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BBC-5678-478B-A8D2-5C9F8CF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6D1-679C-4CB8-8706-FDF4715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664-2A06-4E56-A601-EF718DC2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0AE-E083-443E-9E59-412E7FA3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2E3-27A2-45C0-AD2D-B9E08371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C7E-C6DF-4B97-8DB7-807AC7B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394-9183-4BB3-8748-841ACF0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802-B907-475C-999C-BB916CFD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EC8-740D-4D11-ADB6-B7D88E0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BC8-15D3-4F4B-BA27-6C8D0AF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0DE-EB54-4224-8A60-701018F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CCE-B8A2-4F70-9D70-B9DC307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3EB8A-BD33-423D-BB3A-1B9255F76D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