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554447"/>
        <c:axId val="72610569"/>
      </c:barChart>
      <c:catAx>
        <c:axId val="825544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10569"/>
        <c:crosses val="autoZero"/>
        <c:auto val="1"/>
        <c:lblAlgn val="ctr"/>
        <c:lblOffset val="100"/>
        <c:noMultiLvlLbl val="0"/>
      </c:catAx>
      <c:valAx>
        <c:axId val="7261056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5544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D46EC-36D2-430D-8833-EA09A0EA9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21EE6-E3C8-4D61-8CA3-C75C72F50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DB4DC-D2DB-42B4-A5CF-5E4F25AC2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189B-61F5-4DF5-84CB-01B26655EB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429B-786C-46B5-83CA-D740E599B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DD2EC-66EA-4EC8-9F3B-8CB3AE24A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60F2-C05E-42F8-A2B7-20E98E537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9F25-AA06-4C6B-935D-1F481AC6C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632F3-B06D-49BC-840B-146EBF6D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0BECE-DEEC-4301-AD47-F2EB83980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12DB-5431-4768-8E7D-51F1ACCB6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5787-AD36-47B7-BF7A-DB2A189CD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9A9A26-41EB-466F-B5E7-865BBE3E49C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