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69189"/>
        <c:axId val="53246861"/>
      </c:barChart>
      <c:catAx>
        <c:axId val="23169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46861"/>
        <c:crosses val="autoZero"/>
        <c:auto val="1"/>
        <c:lblAlgn val="ctr"/>
        <c:lblOffset val="100"/>
        <c:noMultiLvlLbl val="0"/>
      </c:catAx>
      <c:valAx>
        <c:axId val="53246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69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7E0-9290-464A-B087-CB48CDB4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877-D301-43AC-8051-B1FE6972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B0D-B8FF-49C3-9E49-6F5F4932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5AC-4964-4125-A6B4-166D8FEA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2D2F-0B72-4634-9475-3C7844DF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D62-0C9A-4BC7-BAD1-BF574458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EE4-7445-40C9-AF2F-80A66ADF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578-5FAE-4D66-AD49-5C4A7CA4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7BA-5925-4388-BB33-72E602C6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843-EDCE-40FF-B840-DE627B05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B2DB-DE33-47F2-B3E3-C993A564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E28-062B-495D-A4FD-7B50FECE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7F6DC-169A-4C44-9237-D1FED006B5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