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18942"/>
        <c:axId val="84059034"/>
      </c:barChart>
      <c:catAx>
        <c:axId val="10618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9034"/>
        <c:crosses val="autoZero"/>
        <c:auto val="1"/>
        <c:lblAlgn val="ctr"/>
        <c:lblOffset val="100"/>
        <c:noMultiLvlLbl val="0"/>
      </c:catAx>
      <c:valAx>
        <c:axId val="84059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18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846-20BB-46C6-9A0A-D17FE217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6E7-EDBD-4609-BF30-A4F106E3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ACD-0D93-43BB-8698-2DE330D7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73B1-626F-4C2B-8A8E-4CFFAC30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391-1C03-4650-8F1C-6DF1635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B76-0BDE-40FB-843A-16C3037A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342-177A-42E7-B3E7-3C8FDC89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798-8FB5-48A2-AEBD-8FBE69F5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975-B156-4709-AF53-6ECB327D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9CB-49EE-471C-AF60-9406AFC8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CB2-02B7-4F16-98BD-B7FD9FCD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478-7DB7-4FB8-B295-338D3B22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29C7F-C42A-4E5C-A5FD-B3AB6BAFEE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