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8456"/>
        <c:axId val="78678834"/>
      </c:barChart>
      <c:catAx>
        <c:axId val="8708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78834"/>
        <c:crosses val="autoZero"/>
        <c:auto val="1"/>
        <c:lblAlgn val="ctr"/>
        <c:lblOffset val="100"/>
        <c:noMultiLvlLbl val="0"/>
      </c:catAx>
      <c:valAx>
        <c:axId val="78678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8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996-4B44-4A66-AF0C-B02862E2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551-6C17-4DBE-8293-81C07F94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A3F-176C-48F1-A208-7E92A1F6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D3A-421F-4876-ADAC-656B48BA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64E-3F7D-418C-AAA1-B08D51F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66F-17DA-4CA7-BD35-E5E1918F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546-3043-4947-86CA-207F9CED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1CA-2CF3-4C20-AFEC-DD3F4729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02D-99EE-4EE6-BBB0-4904A33B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DA7-0523-4448-B57F-376A16E4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2E8-DCBA-4187-9F96-F283EBAE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2B6-656F-4BAB-B073-C2527A9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736DD-4E21-4733-851A-FADCDE279D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