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06253"/>
        <c:axId val="20393057"/>
      </c:barChart>
      <c:catAx>
        <c:axId val="16806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93057"/>
        <c:crosses val="autoZero"/>
        <c:auto val="1"/>
        <c:lblAlgn val="ctr"/>
        <c:lblOffset val="100"/>
        <c:noMultiLvlLbl val="0"/>
      </c:catAx>
      <c:valAx>
        <c:axId val="20393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06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0D6-80F5-496E-9CDA-597680D6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2AE-0D51-400B-A419-A797FA1A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55C-066A-4195-B565-16BE7F1C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284-0C03-4F4E-B150-AE8E0477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A24-FE7C-4808-A53C-E0597B8F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49A-19AA-441B-8927-AFAD3530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2DB-4FFD-4696-8849-20697787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F6A-AD15-4435-9227-B99E629F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D03-CB26-426C-AC92-A971E945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323-94EF-4B9E-AE87-D9B6C6D6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E60-6901-418E-8325-89248210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309-4991-4A13-AE57-9949E082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F577D-C6C9-4478-B9C9-D2B97DCECD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