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60366"/>
        <c:axId val="65385886"/>
      </c:barChart>
      <c:catAx>
        <c:axId val="729603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85886"/>
        <c:crosses val="autoZero"/>
        <c:auto val="1"/>
        <c:lblAlgn val="ctr"/>
        <c:lblOffset val="100"/>
        <c:noMultiLvlLbl val="0"/>
      </c:catAx>
      <c:valAx>
        <c:axId val="65385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603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DDEF-F3C8-431B-B316-E018E701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6D3-F33F-4D2C-9E88-684975F7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B18-F912-40DB-9EE7-9A779168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AA8E-B921-4643-BCB6-C09414D5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E5CB-4150-4C37-8E36-F8973324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EFA-C710-42CD-B9DE-D857CC06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9C5-4238-41BE-9D40-E506587E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847-113A-43E3-981D-7D10A9B0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672-FCFF-4106-81C2-6DC918E4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EB5-75E0-409C-B221-72B65D11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007-DABA-4F21-859A-85A1A35C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60C8-BF07-4DFC-AB9B-C88A9902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7663C-0999-41ED-9182-8633E2B133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