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18626"/>
        <c:axId val="71938127"/>
      </c:barChart>
      <c:catAx>
        <c:axId val="36418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8127"/>
        <c:crosses val="autoZero"/>
        <c:auto val="1"/>
        <c:lblAlgn val="ctr"/>
        <c:lblOffset val="100"/>
        <c:noMultiLvlLbl val="0"/>
      </c:catAx>
      <c:valAx>
        <c:axId val="71938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18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57E-FB6F-4B9A-8990-E22EE91B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D78-BF32-4F36-8779-BC6C0ABA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459-FB83-4F02-AADA-DDA7E93E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161-E42F-422F-970A-C2DFA8D3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A30-2F17-49FD-B8A1-EB8347EC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0B8-1C96-4F65-A2E9-4843CD84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CA6-5AB2-43F9-A264-0CDE9D8A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DD8-4E29-4FF8-A38F-735B6BE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D1D-823A-4E90-808A-EDC42B4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233-E3A1-46FA-AFC0-73FDE55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25A-22D1-4367-90A1-B5176DD4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67D-D165-4AD4-A125-5A3DE64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8037B-E985-4629-B8FE-4673751182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