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92"/>
        <c:axId val="59425750"/>
      </c:barChart>
      <c:catAx>
        <c:axId val="78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25750"/>
        <c:crosses val="autoZero"/>
        <c:auto val="1"/>
        <c:lblAlgn val="ctr"/>
        <c:lblOffset val="100"/>
        <c:noMultiLvlLbl val="0"/>
      </c:catAx>
      <c:valAx>
        <c:axId val="59425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5E7-46FF-439F-BB7A-C2FC0FE0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0E5-0A2D-4D56-8241-35A1337D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E40-37D2-4B13-852D-E35FFE0C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C71-CCF7-4AB7-B77D-D28E4830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0A3-B00D-4EF5-83CA-7CE4083B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086-7229-4F36-862E-A37B82D3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3E2-6B2F-4E13-80D4-2F703FD5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09C-444D-46EE-9D2A-B93AC0BE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468-1995-4FB3-9C51-FE27955C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EE5-61F1-45BE-9DBA-87DAC691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542-353A-482D-BF77-53C42F8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005-6183-4147-9AC6-B2FF5749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494A2-F964-4E7D-89E1-3A1D4A2F15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