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30584"/>
        <c:axId val="35186719"/>
      </c:barChart>
      <c:catAx>
        <c:axId val="15830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6719"/>
        <c:crosses val="autoZero"/>
        <c:auto val="1"/>
        <c:lblAlgn val="ctr"/>
        <c:lblOffset val="100"/>
        <c:noMultiLvlLbl val="0"/>
      </c:catAx>
      <c:valAx>
        <c:axId val="35186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0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CFC-671F-4505-ACB9-0D94F121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D37-08A6-4218-B019-B73405E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BFA-0722-4BE6-8288-C5971ACF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633-CE94-45CC-ABA0-EEC3B9C7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0AE-E7A0-4D3F-B2C6-5B8C7A5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B9E-A315-4516-88BD-8F9A7A8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62F-99F7-4137-B0F3-2F62390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A70-B131-44D3-806F-6340F445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6FE-064F-46F8-9E61-B5225703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678-BF67-4B72-A6D0-09C58ED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AA6-D7B2-4E9A-90C6-13B7536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4CA-1BAB-4FE0-95A6-5394BC9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3398E-F47C-4CFA-8D29-0D5A441A2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