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16549"/>
        <c:axId val="5289162"/>
      </c:barChart>
      <c:catAx>
        <c:axId val="54116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162"/>
        <c:crosses val="autoZero"/>
        <c:auto val="1"/>
        <c:lblAlgn val="ctr"/>
        <c:lblOffset val="100"/>
        <c:noMultiLvlLbl val="0"/>
      </c:catAx>
      <c:valAx>
        <c:axId val="5289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6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2D8-8F49-49B4-8548-B3DD28A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518-8D1C-4FA1-8329-230DE4D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AC5-2750-432E-B96E-1BFD5F86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163-49F4-4163-BB79-7E3C611E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341-9F3F-4F97-964F-F2275DB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84D-8439-4A87-83FF-490F023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352-F63E-4B10-BC7E-97FE832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DEB-867B-41B7-95BC-03B0F770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E4A-3F59-49DB-B22F-446617D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6F5-E498-451E-A9CB-BF08D1C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281-C3D5-4CE7-B9BA-4C58A6D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57C-916A-4F58-8E0B-439B423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64782-6145-4A81-AD29-36E7E6A86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