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503076"/>
        <c:axId val="97844577"/>
      </c:barChart>
      <c:catAx>
        <c:axId val="415030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844577"/>
        <c:crosses val="autoZero"/>
        <c:auto val="1"/>
        <c:lblAlgn val="ctr"/>
        <c:lblOffset val="100"/>
        <c:noMultiLvlLbl val="0"/>
      </c:catAx>
      <c:valAx>
        <c:axId val="978445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5030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7165-5000-4601-B031-AC4BAA7C9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8DB9-F87C-47D8-9657-C810C8BA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4C4D-FC45-4986-8118-4E18C7D23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0597-29F4-4256-8892-2C06E97DA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2CF6-77C5-462D-92CB-573CC7C3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1476-5FDC-42A5-9B93-2FEAD3CB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8FAC-65F5-4E94-B6C5-99A7D624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CA8B-6AB1-4BF3-A9F4-D885214A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7157-0894-4BDD-92E3-CA368258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7447-B4E1-4576-A01D-63313756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3B44-EF0F-4D1A-8E13-DAC20F97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3DBA-52B3-46F0-AEAF-18CE4B10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BF2393-53AB-4419-9EFF-3D7169AF3A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