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03506"/>
        <c:axId val="83102224"/>
      </c:barChart>
      <c:catAx>
        <c:axId val="931035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02224"/>
        <c:crosses val="autoZero"/>
        <c:auto val="1"/>
        <c:lblAlgn val="ctr"/>
        <c:lblOffset val="100"/>
        <c:noMultiLvlLbl val="0"/>
      </c:catAx>
      <c:valAx>
        <c:axId val="83102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035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423A-698B-4BBF-B59A-DC5B3E3A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B448-C734-48DB-B3C1-597D579D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9B63-E515-4282-B013-0983BDE7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944F-386C-4A80-AE18-D2CD3E6D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FC4-82E4-4C03-9585-2ABA50D4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0A32-51F5-405B-B5F5-A1F519A3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FC49-976C-42AD-A912-952113EC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F795-C937-42F4-B0D9-1DCF2B91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4B2-5A2F-4438-91F3-197A5EFB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B2E2-2DF5-42D9-BFE6-58EC53A6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264-9AEB-45A2-A6D6-94036BB8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C8DF-328A-4F35-B194-E14792A9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CD148-F5F9-49B2-9B23-69D7754226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