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10884"/>
        <c:axId val="16921905"/>
      </c:barChart>
      <c:catAx>
        <c:axId val="64710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21905"/>
        <c:crosses val="autoZero"/>
        <c:auto val="1"/>
        <c:lblAlgn val="ctr"/>
        <c:lblOffset val="100"/>
        <c:noMultiLvlLbl val="0"/>
      </c:catAx>
      <c:valAx>
        <c:axId val="16921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0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EE4-833A-4C3B-A7A5-C113EAC3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163-047A-4BA3-9944-DE2CA915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495A-D129-4D8B-85F2-3E0BBEE43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2A2-E4AE-4E7A-BBAA-FD882070D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AD86-D0E5-4ACB-922C-4F9F85CC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6CE-B9E8-4259-B2DF-FFB9FDEC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DBC-0E63-4D0A-9EAB-1D68267CE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58AA-371E-4513-BEC2-27297FC6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3CF-069A-4856-82D5-67BED207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69C-4B6F-45EE-80D3-E24B166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5E8E-8E5F-4F3C-9BF1-461BCFCD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0FC-7A3A-49D5-9403-D95DF0C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4A92A-C49A-4A83-BA0D-8D99305C43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