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3912"/>
        <c:axId val="89738938"/>
      </c:barChart>
      <c:catAx>
        <c:axId val="2093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38938"/>
        <c:crosses val="autoZero"/>
        <c:auto val="1"/>
        <c:lblAlgn val="ctr"/>
        <c:lblOffset val="100"/>
        <c:noMultiLvlLbl val="0"/>
      </c:catAx>
      <c:valAx>
        <c:axId val="897389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A9E-6480-47FB-81DF-B11ABAFD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73D3-98F1-4936-BEB2-339091F5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1D32-8D20-4569-B568-A2CB4E3C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A15-6B45-4965-86EE-998FB36B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09DE-6448-4A11-A812-F594E59C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6123-9BA3-476D-AF15-361663AF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9394-FEA7-49B1-9C81-9747325C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8F0-B1D8-42A2-999B-A564FF56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7EBB-ABB0-4040-B72B-CEBEFD8F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DBF6-F900-4C3B-AEFE-9D4312D7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829-01B3-4EB7-9DEC-4C372A56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D98-6E0D-4AD9-A6CC-FB0DCD0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9D6C6-59D0-4B90-AAF9-424583B26F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