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22462"/>
        <c:axId val="93155407"/>
      </c:barChart>
      <c:catAx>
        <c:axId val="94322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55407"/>
        <c:crosses val="autoZero"/>
        <c:auto val="1"/>
        <c:lblAlgn val="ctr"/>
        <c:lblOffset val="100"/>
        <c:noMultiLvlLbl val="0"/>
      </c:catAx>
      <c:valAx>
        <c:axId val="93155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22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115-D437-4B01-82AD-8195B6F7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299-57F6-46B8-A604-03CAF899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C36-330F-4CDF-B9F2-F1144E8D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397-9594-4876-881A-B74A0334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F86-ADA1-4918-AD8B-1CB46534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0CE-85A3-4433-B772-0E453EE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B0C-2BA5-49D5-89F3-5197F35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E5F-A69B-4195-93E0-D96E93F3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78C-DB15-4AC6-94B4-5C274790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59A-3EDA-4CE8-AE68-C76194B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065-BD19-4B4D-9B33-F5DE35D7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AD4-8B59-4DED-8ACA-81C4235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C8477-DDCF-46C6-9542-353A1ABECE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