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189932"/>
        <c:axId val="53542922"/>
      </c:barChart>
      <c:catAx>
        <c:axId val="111899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542922"/>
        <c:crosses val="autoZero"/>
        <c:auto val="1"/>
        <c:lblAlgn val="ctr"/>
        <c:lblOffset val="100"/>
        <c:noMultiLvlLbl val="0"/>
      </c:catAx>
      <c:valAx>
        <c:axId val="535429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1899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7EE3-02C2-4C41-B5EE-0BEDD52CB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9054-558B-4105-910D-9DEBD97D4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CCED-B77C-42A8-9ABA-71EBA47F1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5D6D-28E7-4BB7-B1F9-C70B19F27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2812-61DA-45D2-A1DD-FB61B0F4C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5FBE-C24B-4812-85A2-15AA922AC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4B4D-9043-4D38-8569-B7F36F667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4C5E-3D73-4B39-97A5-84FD83246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598D-112F-4B67-81DD-F16F9F439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71E1-A4A5-4B55-9E63-2819D96CC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A80B-B04E-48B9-BB6D-69DC2AD1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05C2-9AF6-48B5-9013-482797F8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0224D5-736F-43AD-B98C-6E69318A246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