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65131"/>
        <c:axId val="78363407"/>
      </c:barChart>
      <c:catAx>
        <c:axId val="55165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63407"/>
        <c:crosses val="autoZero"/>
        <c:auto val="1"/>
        <c:lblAlgn val="ctr"/>
        <c:lblOffset val="100"/>
        <c:noMultiLvlLbl val="0"/>
      </c:catAx>
      <c:valAx>
        <c:axId val="78363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65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E4D-E17F-46F9-BC3A-2060C9BB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999-BF87-498E-A8BD-913A5A90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62F-4CD2-4090-909B-3CB6A6C3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F231-C41E-4EB2-9D48-13E02C1F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88F4-1A79-4114-88D2-1A7AE97D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E3B7-CA65-489D-92FB-D12C75BE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135E-2BD1-4D3B-8C02-E3E35D21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2C4-EEC7-4252-86E1-D2F8E2F8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A50-4EB6-4FEE-964B-30AF8C1D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59D-D782-4E0B-AE8D-165E8C5F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DBDF-B916-4887-AA68-0EC206F3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F8A-3CFA-43CC-B659-AB823167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99597-4CAE-4F33-973D-E4A71020FF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