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29807"/>
        <c:axId val="48575509"/>
      </c:barChart>
      <c:catAx>
        <c:axId val="87829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5509"/>
        <c:crosses val="autoZero"/>
        <c:auto val="1"/>
        <c:lblAlgn val="ctr"/>
        <c:lblOffset val="100"/>
        <c:noMultiLvlLbl val="0"/>
      </c:catAx>
      <c:valAx>
        <c:axId val="4857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29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DFD-49F7-4D7E-91AC-A0DD8946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49E-FBBF-4D1C-BEB8-4B6E9B8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26D-5D5F-47B0-BD1F-91D4BD17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806-351A-4C7B-8FBE-AF8C0B27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3CA-29EA-46A4-AF8C-58E75F2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895-5248-4200-AFCE-B545D8B8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758-BE18-473C-9FBE-BE738EC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43A-FB7F-43B2-B432-F604FD9C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61C-8167-4241-BE98-55564C6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E49-8B0A-40F9-8B95-6489C5C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123-FF90-4DF9-B55A-27BA554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2FD-9CA5-49E0-A12C-896F71B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4B502-5FEE-4082-8420-D48C7C4FC0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