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80115"/>
        <c:axId val="8763620"/>
      </c:barChart>
      <c:catAx>
        <c:axId val="49880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3620"/>
        <c:crosses val="autoZero"/>
        <c:auto val="1"/>
        <c:lblAlgn val="ctr"/>
        <c:lblOffset val="100"/>
        <c:noMultiLvlLbl val="0"/>
      </c:catAx>
      <c:valAx>
        <c:axId val="8763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80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AF6-3F7B-4C76-91EF-4BE81823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E49-7573-4B29-9CEF-9A4EEA9D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8E9-9DC3-4025-A74A-F31DC285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A73-CE3F-4607-9722-6AD51E68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844-E756-445C-BCBA-DA28EEA0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6C3-6A1E-44F2-9C00-164D7160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90E-DA0C-4411-B3F9-33E2C0F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690-02B9-46CB-8591-13A40B03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C4F-B60B-48E4-8398-86ABA271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792-DD37-4B5E-BDB7-B93FA13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794-7AAE-4861-BF44-77669F7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AA9-CE96-493D-9895-D6122AB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1C35D-9DF7-455F-997A-D5FDED20A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