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55221"/>
        <c:axId val="49287775"/>
      </c:barChart>
      <c:catAx>
        <c:axId val="24255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87775"/>
        <c:crosses val="autoZero"/>
        <c:auto val="1"/>
        <c:lblAlgn val="ctr"/>
        <c:lblOffset val="100"/>
        <c:noMultiLvlLbl val="0"/>
      </c:catAx>
      <c:valAx>
        <c:axId val="49287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55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6C0-2F6D-44E3-A2DE-E4BEDD7E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387-A4ED-449E-8045-415BDC69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E14-1121-458E-9CED-BD81F278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EC0-8924-4452-96FA-BD77877B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355-7209-430D-A5A0-F3F50C67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321-36BB-4A8F-B9A4-1789C8A3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64C-95B1-4510-90E2-4E0395A6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92C-DFD9-4D10-8046-882CFF13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87B-3064-482E-AE9B-05CEA5D5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4C1-29E0-44A8-B0DF-88CAA7C1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665-5B65-4E0A-95A1-3501F44F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3CF-8248-46B0-877A-84C8F886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75281-D270-4D82-AE52-E6CAFA42BC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