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267705"/>
        <c:axId val="60918969"/>
      </c:barChart>
      <c:catAx>
        <c:axId val="482677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918969"/>
        <c:crosses val="autoZero"/>
        <c:auto val="1"/>
        <c:lblAlgn val="ctr"/>
        <c:lblOffset val="100"/>
        <c:noMultiLvlLbl val="0"/>
      </c:catAx>
      <c:valAx>
        <c:axId val="609189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2677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18BC-5BEF-4DC8-84C6-AC03A76CD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1FB4-34D4-47EE-982E-489CEA247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362C-F797-4F4A-B1DA-BF8E9487E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7394-5C05-4809-B819-40F3F21BE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A26C-D584-4A03-8F4F-DDF2F8BCD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4852-0C20-4154-A5DE-19A899E05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7499-9AA0-419E-997D-7B506A53E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7273-03E1-4A72-B80D-1CA5CB4C5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CB0B-93DB-4EAC-B320-6A8F147D9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0139-92B7-48FE-9292-6E16D09F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F455-8711-4402-AE8E-5D690119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A5E5-6154-42EF-9335-369AFAC7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DB75BB-1130-4EAA-8CF6-5314E80A076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