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28446"/>
        <c:axId val="50341723"/>
      </c:barChart>
      <c:catAx>
        <c:axId val="21328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41723"/>
        <c:crosses val="autoZero"/>
        <c:auto val="1"/>
        <c:lblAlgn val="ctr"/>
        <c:lblOffset val="100"/>
        <c:noMultiLvlLbl val="0"/>
      </c:catAx>
      <c:valAx>
        <c:axId val="50341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28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DCB-6E38-4300-8FDA-EEB5F583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09B-53BB-476E-8C33-AA405BE7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6A7-4133-4A2D-BA3B-ED3951C9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947-FF91-49EA-BCE6-7D32270E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111-CD24-4329-9856-31A4B9B0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122-0446-4A9B-BFBC-E7C3EFB2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4DD-5F5B-4F95-8EBF-A776EB80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B984-725B-4253-8408-5F98B939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763-EA36-4DCC-8938-47B5B745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64B-FA98-4401-B94F-666824B6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1EF-078A-42F2-8852-F373C29D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695-5F4B-4408-B864-B2814BF8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2D802-B2C8-4423-BAA3-F1EA01FE35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