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96935"/>
        <c:axId val="77688769"/>
      </c:barChart>
      <c:catAx>
        <c:axId val="74196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88769"/>
        <c:crosses val="autoZero"/>
        <c:auto val="1"/>
        <c:lblAlgn val="ctr"/>
        <c:lblOffset val="100"/>
        <c:noMultiLvlLbl val="0"/>
      </c:catAx>
      <c:valAx>
        <c:axId val="77688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6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314-E76D-4C40-9D6D-8F1FEC8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2E3-7619-4124-B1FF-2152A39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24F-E605-4F54-93B1-53AAD5A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769-F047-4F6E-AD4E-69C1E363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5E0-E69F-4B87-AF73-149461B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676-3832-4166-A32E-C97FA55C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55C-679B-47AE-93AA-8586E6D8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C5B-FB43-4C4F-AFA9-F075CDBE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896-B39B-4FFB-911A-936D811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062-AA6F-467C-97C7-01ADB2C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1A0-43A1-4C77-B6C9-2E97C2B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47F-32F1-4C36-9D70-7B1A9A2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A3B1-196C-40F2-9F60-0E32BB3F5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