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50962"/>
        <c:axId val="89545059"/>
      </c:barChart>
      <c:catAx>
        <c:axId val="36650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5059"/>
        <c:crosses val="autoZero"/>
        <c:auto val="1"/>
        <c:lblAlgn val="ctr"/>
        <c:lblOffset val="100"/>
        <c:noMultiLvlLbl val="0"/>
      </c:catAx>
      <c:valAx>
        <c:axId val="89545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0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264-D52E-4C23-A7F2-02CA051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A7C-2B42-41F0-BCE3-9C944FC2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4A1-E5D6-41BF-BD78-60E35232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FEB-52AD-469C-AA4F-E7F36A4E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9CE-A80F-4EA6-8E8E-54192631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E72-1BE7-4D43-8F3E-62B5719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65D-A681-4DDF-910B-17FC037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D7D-DB88-4056-A861-52E29F7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44B-DEC7-4B14-9199-41AE099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DAD-C283-4021-A69C-3523D62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73E-19F1-463B-88F6-DCF44CE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89E-F564-41CF-804D-4B1EE82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DBAA-810D-4045-8513-93DE7D1BB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