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72812"/>
        <c:axId val="3905969"/>
      </c:barChart>
      <c:catAx>
        <c:axId val="62172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5969"/>
        <c:crosses val="autoZero"/>
        <c:auto val="1"/>
        <c:lblAlgn val="ctr"/>
        <c:lblOffset val="100"/>
        <c:noMultiLvlLbl val="0"/>
      </c:catAx>
      <c:valAx>
        <c:axId val="3905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72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3CD-33FA-4FAE-8474-A5E69DB2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EEC-4F9F-450E-A054-D916CAFE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77E-0B8C-43A5-81F2-553C6D08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C7A-833B-463E-8966-330DF5B9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9D6-035A-44DD-B443-6319115B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8E8-2CEC-47FA-8D0B-B769A52B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387-C6C9-45DB-AE3C-1464B619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B1F-A922-4176-92EF-A6F50CC8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5B5-1C37-466B-8B2E-D3CBDD4D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58A-6C78-42D2-A163-AC0E69F8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EF6-B086-406A-AFE6-0F6AF4FA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14B-1568-4687-BEC4-5591E693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0BB9D-DE34-400F-9132-1ABEA45E98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