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487335"/>
        <c:axId val="52392735"/>
      </c:barChart>
      <c:catAx>
        <c:axId val="724873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392735"/>
        <c:crosses val="autoZero"/>
        <c:auto val="1"/>
        <c:lblAlgn val="ctr"/>
        <c:lblOffset val="100"/>
        <c:noMultiLvlLbl val="0"/>
      </c:catAx>
      <c:valAx>
        <c:axId val="523927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4873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749B-3D10-4F45-B282-D2A77DDAE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A509-1894-4A56-864D-4F7C33735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E03F-0155-4D43-90B7-5C15F515E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53C4-8427-4BE3-94E7-E625DDEC1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89B8-646F-4FC0-9777-9990A7268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DFAC-AC77-4371-BB09-09967B423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57C3-58D3-4BBC-ABD4-0E754DD67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11CB-AD50-4153-ABA1-64094AF88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2542-C84A-49D2-B66C-70711F582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92B1-87E3-4A44-BE8F-24D21492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7920-73D7-40E3-87BA-4D0C7CA1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BDF5-B80A-4FE6-8163-B00597D2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230978-428F-4ECD-8901-91245158B1A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