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942459"/>
        <c:axId val="67456673"/>
      </c:barChart>
      <c:catAx>
        <c:axId val="849424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56673"/>
        <c:crosses val="autoZero"/>
        <c:auto val="1"/>
        <c:lblAlgn val="ctr"/>
        <c:lblOffset val="100"/>
        <c:noMultiLvlLbl val="0"/>
      </c:catAx>
      <c:valAx>
        <c:axId val="674566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424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DD63-1DB8-4D8C-8A54-DAFB7358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DA2-814C-47DB-B1A6-DE689297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A70B-92FE-4AD6-97F4-7DFB3DC6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70C9-9325-41B5-B326-0074845D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707C-25B1-421C-8BFF-A69E7253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74A3-B1D7-425D-9FB0-DF496B33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3861-49C0-4749-BFE1-B648613A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74D0-E5FE-49F1-9204-EC33A9F8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FCE6-1836-4B19-9DD5-CE553872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7C93-3A1F-4687-A653-AEB4B874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187E-C2CF-4A11-AA48-8470FFE6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A626-AFD3-4FBC-8319-83753A60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24178-9714-4220-8DC4-0991B808D9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