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3439"/>
        <c:axId val="31551321"/>
      </c:barChart>
      <c:catAx>
        <c:axId val="97934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51321"/>
        <c:crosses val="autoZero"/>
        <c:auto val="1"/>
        <c:lblAlgn val="ctr"/>
        <c:lblOffset val="100"/>
        <c:noMultiLvlLbl val="0"/>
      </c:catAx>
      <c:valAx>
        <c:axId val="315513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34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B6FD-5116-470E-A003-29CD80A4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393-E6C0-4073-8672-9D13D3B8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74C-E4E8-46B0-8C3A-1F6152D3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81C-563B-4B2D-B7B2-982BB282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2A24-525A-4371-A49B-5E42CD67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88F-1B5A-47E8-A52C-08FC51D7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E6D-C83B-43C7-9645-91175778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751-FCFF-4F87-924C-00A0DC4C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8FB3-F5A6-4AEE-823A-553B6969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86B1-A718-41FC-9294-E2B6CEA9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595C-B3D9-4CEE-906B-B2503924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DECA-AC70-44E9-9BAA-D900F493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DF6E2-8045-4204-A0FD-A42C676F11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