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069797"/>
        <c:axId val="61586511"/>
      </c:barChart>
      <c:catAx>
        <c:axId val="360697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586511"/>
        <c:crosses val="autoZero"/>
        <c:auto val="1"/>
        <c:lblAlgn val="ctr"/>
        <c:lblOffset val="100"/>
        <c:noMultiLvlLbl val="0"/>
      </c:catAx>
      <c:valAx>
        <c:axId val="615865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697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D9EB-59D5-4E4B-9E45-A5127E67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712E-4CCE-4014-9EEE-17D36ADF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7EBE-A22F-476C-8F95-60D8C43FA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B7A7-2079-4D3B-8C1B-AE0599C0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EAC1-ADB7-4627-AC0F-C70BADCE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4793-FF93-49FB-87EC-C6D485A2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B47D-94EF-4BAB-AB5A-D9D9C162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7C2B-1A0A-4003-A82F-719D1E3B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AAE1-4B60-4F99-92A1-60FD69FB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AC6A-A814-4856-9CEF-D5CFB3DE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7831-6DC7-4A2E-A1FE-0812E37D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D771-0A69-482B-98E1-351AD7EA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7436E-8A35-4721-90A9-A79A6B6CE5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