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50701"/>
        <c:axId val="98752439"/>
      </c:barChart>
      <c:catAx>
        <c:axId val="43650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52439"/>
        <c:crosses val="autoZero"/>
        <c:auto val="1"/>
        <c:lblAlgn val="ctr"/>
        <c:lblOffset val="100"/>
        <c:noMultiLvlLbl val="0"/>
      </c:catAx>
      <c:valAx>
        <c:axId val="98752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50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4E6-1C56-4330-8980-E16C3BA3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BBD-F737-49A8-A3D1-4461C01E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E26-EFEB-4D83-B0CA-73E8E391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473-D68F-4D39-94E2-4E283FAD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FF6-4F1B-424D-9C29-50D9B32C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AEC-58C5-487B-8FED-334EE639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94E-79CD-44AE-B9C7-5BE13033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9C13-FA24-42C2-A08F-042F038A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A4A-9039-4DD2-AA4C-452F149B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C03-A9B9-4D0A-A3D4-53D069BB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18E-6749-4879-99F9-ABE04C5E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A38-5C37-4ED3-BA3F-0157AC94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AD460-FC0D-4AE6-9258-C35B31ADAD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