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73813"/>
        <c:axId val="46554162"/>
      </c:barChart>
      <c:catAx>
        <c:axId val="60573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54162"/>
        <c:crosses val="autoZero"/>
        <c:auto val="1"/>
        <c:lblAlgn val="ctr"/>
        <c:lblOffset val="100"/>
        <c:noMultiLvlLbl val="0"/>
      </c:catAx>
      <c:valAx>
        <c:axId val="46554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73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870-5AA0-44BC-80AB-FA62ADE2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FE3-2014-4051-A737-1BD79279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391-4BA0-490A-855E-C7ABC5B4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4B9-B372-405B-8BA2-9E299312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829-53CA-4DD9-BDD5-AF921C95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63A-CECA-4994-9E65-1FB47598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F32-917F-4155-925E-B816790E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928-8B5E-4506-B985-ADE7F0F8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D98-89EE-41DB-A185-F63FDC3E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785-1D5D-4674-B15C-C77B13BD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A9F-CC9A-433B-A2C0-E06E5C1E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D42-0037-4D82-91FE-E197DEB4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1FF8A-FC0F-43F5-BF99-78519B78FB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