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43111"/>
        <c:axId val="70982363"/>
      </c:barChart>
      <c:catAx>
        <c:axId val="37643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82363"/>
        <c:crosses val="autoZero"/>
        <c:auto val="1"/>
        <c:lblAlgn val="ctr"/>
        <c:lblOffset val="100"/>
        <c:noMultiLvlLbl val="0"/>
      </c:catAx>
      <c:valAx>
        <c:axId val="70982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43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17A-533A-45E3-8531-4B269AE4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954-50DC-4043-9DEF-C60F3151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90C-3445-4170-B062-64C4070B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192-9161-4F18-8021-7B795275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E3D-4803-409F-97B7-84F831E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157-A5A6-4DCD-903D-FF46F731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63D-992B-4E6E-898C-CB3B482E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B85-CC5A-400B-8412-D324EBBF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B12-666D-4757-8373-4BB40399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FEA-4F3A-49AF-A684-EA96D1E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1DC-DD59-4E30-8DF8-1561C51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DE0-041C-4D8C-9142-6654C86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D4984-0B16-46D1-AF79-01BCF23389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