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7064"/>
        <c:axId val="34530216"/>
      </c:barChart>
      <c:catAx>
        <c:axId val="1337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30216"/>
        <c:crosses val="autoZero"/>
        <c:auto val="1"/>
        <c:lblAlgn val="ctr"/>
        <c:lblOffset val="100"/>
        <c:noMultiLvlLbl val="0"/>
      </c:catAx>
      <c:valAx>
        <c:axId val="34530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7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ADE-CF08-40E1-A4FE-C35CF7FA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AF3-C286-4698-A990-4B33464A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93A-CB5B-45FA-9BD5-774A6CBD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CB7-F7B5-48A4-BD79-B25272AE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3D7-089F-413B-A8C1-8D962256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023-22D6-4A8C-A5B4-E097013E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624D-552D-47B6-A9FD-87E9354B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030-B220-488A-A7AF-3AF05714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024-89D1-448A-8883-08FF6BA8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816-2F66-4628-A3EB-F4B82845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0A4-A3CB-475F-90A3-70B039BE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946-D3B4-40C2-BC1E-0D716C07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A5B8B-291C-4B7A-A673-297666418D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