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26013"/>
        <c:axId val="82892250"/>
      </c:barChart>
      <c:catAx>
        <c:axId val="22026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92250"/>
        <c:crosses val="autoZero"/>
        <c:auto val="1"/>
        <c:lblAlgn val="ctr"/>
        <c:lblOffset val="100"/>
        <c:noMultiLvlLbl val="0"/>
      </c:catAx>
      <c:valAx>
        <c:axId val="82892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26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4C6-DD2B-4C23-B681-CA505DE5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6A3-072D-478E-A7FC-7B8CE6CA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BFC-9831-406D-8909-57BA0768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073-FAEB-422F-92D9-CDA7CFED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024-AC12-490F-962F-D1F404EF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084-2C58-4EB5-848A-66D09D33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E60-58B1-4CAF-AB76-49EE4925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9AF-9BA1-4A9F-A976-CD787F02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BCC-5DF0-4461-AA3C-359A0101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0E5-2166-4AC9-BC64-7AED2C80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368-041E-4FED-8F2E-987A7427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8E3-58D9-4537-9CD8-38B6B53E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59FE8-D486-4C58-B504-7FAC9C82FA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