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024218"/>
        <c:axId val="19227902"/>
      </c:barChart>
      <c:catAx>
        <c:axId val="710242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227902"/>
        <c:crosses val="autoZero"/>
        <c:auto val="1"/>
        <c:lblAlgn val="ctr"/>
        <c:lblOffset val="100"/>
        <c:noMultiLvlLbl val="0"/>
      </c:catAx>
      <c:valAx>
        <c:axId val="192279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242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D39D-256B-4928-AA12-B6E7F7D3D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9070-BBF1-4D52-BFD4-A41EBDE3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CEC-FE8D-4A47-89E4-C6872D61A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28D-AD9E-428C-8569-BC872462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2A64-A01E-4FF3-9E0C-8DD1A707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62C9-2DCA-4A9F-B052-93209F23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6FB6-5F45-4091-9D3C-E917ADFF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4A8-D244-4865-9B65-FEADBD770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AB2A-EBD8-4568-ACEB-84F12F2E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5E1-6AEA-4F65-B252-4ACCAC5A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DC7A-BCA6-4CBE-858E-674E1D9B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60A6-73CF-43B4-A4B3-EBBEB0AD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25B97-797B-4999-9031-1F56B8BAFE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