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260436"/>
        <c:axId val="22619998"/>
      </c:barChart>
      <c:catAx>
        <c:axId val="842604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19998"/>
        <c:crosses val="autoZero"/>
        <c:auto val="1"/>
        <c:lblAlgn val="ctr"/>
        <c:lblOffset val="100"/>
        <c:noMultiLvlLbl val="0"/>
      </c:catAx>
      <c:valAx>
        <c:axId val="226199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604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7640-BEB4-4259-ACCC-61DE1963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0183-7C2C-485F-9C69-3C4B6DC0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973E-AC45-4C3B-9784-AB89B596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278E-0824-4CF9-B40C-00622C59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FDA3-40DF-4291-AD57-FE317219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92CC-809D-49BA-9763-060CBB03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DA1D-7F21-4C72-BAC4-05B8A3FA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2382-FFB6-4AC2-9FEB-BF7EBDE7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5A0D-A9C3-4D76-92EC-31CACEE2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2EC3-539D-4652-9D55-B5C4887A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1E39-5442-4999-9CE1-0EB88F1F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6EFD-FF99-4635-8AA5-F9D057A7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B6228-7539-4072-B5B0-9DDA5BD1DC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