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73374"/>
        <c:axId val="32095920"/>
      </c:barChart>
      <c:catAx>
        <c:axId val="92573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95920"/>
        <c:crosses val="autoZero"/>
        <c:auto val="1"/>
        <c:lblAlgn val="ctr"/>
        <c:lblOffset val="100"/>
        <c:noMultiLvlLbl val="0"/>
      </c:catAx>
      <c:valAx>
        <c:axId val="32095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73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8D5-E002-45BD-B048-893E2BBF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3C3-0DAF-4C87-AABC-30AF1978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EBF-10D4-4232-BED7-D648D4EE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75A-D371-43FB-92AD-7E661F61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267-5C14-4E92-AF83-944758C1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FAB-DF1F-4E73-BEB6-C7A8BAC5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C51-F00E-4FE4-833C-456ECF11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81D-B31D-4692-B24F-2C34BBCC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75E-7348-4FC6-AE52-8DF77BED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83F-AC6B-4CD8-B7F2-670A490B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AB7-DD4D-4DBA-BE25-3C5E8D60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B26-A23B-462A-9F8F-32083955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2957B-F984-4C35-A6E1-E0558D76D2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