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230320"/>
        <c:axId val="12882431"/>
      </c:barChart>
      <c:catAx>
        <c:axId val="182303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882431"/>
        <c:crosses val="autoZero"/>
        <c:auto val="1"/>
        <c:lblAlgn val="ctr"/>
        <c:lblOffset val="100"/>
        <c:noMultiLvlLbl val="0"/>
      </c:catAx>
      <c:valAx>
        <c:axId val="128824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2303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552A-7C40-4499-AD20-43074D7E7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3D5D-1610-4E57-8A54-982AD98ED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A630-9FC3-42AF-A8AA-B5B53EA43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BBB3-33EB-4098-BA4A-BCEE447F7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6BA3-E25B-4D3B-A06C-E4062C8CA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ABE3-A621-4258-BEE5-7C315F8E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0965-7213-4F11-B09A-6F7E95CA8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E264-229B-4B60-BD9B-92EFE11F3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C69A-EE7E-4DA2-A336-463C69884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9482-DCDA-4479-877E-E2106376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E875-129E-41EE-8CEF-2D5180E6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665D-21A7-4E67-9D62-178E8A2B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60A8B5-AF37-4687-9779-C07DF032476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