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68201"/>
        <c:axId val="80117719"/>
      </c:barChart>
      <c:catAx>
        <c:axId val="46768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17719"/>
        <c:crosses val="autoZero"/>
        <c:auto val="1"/>
        <c:lblAlgn val="ctr"/>
        <c:lblOffset val="100"/>
        <c:noMultiLvlLbl val="0"/>
      </c:catAx>
      <c:valAx>
        <c:axId val="80117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68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5F0-09E1-410A-AA77-D41D0CCE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BF3-4A1F-48AA-B8F4-D35A102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F9C-6FBC-4066-9619-0D9C5B9F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5C3-B6FD-42B4-ACCF-E49A0C09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A7D-A050-43A4-8556-ADEED6E6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ADE-FCD5-4B18-BD1D-B7381186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DEE-520C-46FD-878E-E283DBFA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FEC-7790-4886-98CA-E6AC7574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5D8-7F6C-49BA-820B-4CA0E4C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41C-30C1-4242-BE8D-4E458481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25F-D36C-4067-B9A0-DFECCB75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16B-E42B-4A72-AC4F-76B8C97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A73EC-04E3-4BFB-AF7A-00B10DC8F7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