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11828"/>
        <c:axId val="34933385"/>
      </c:barChart>
      <c:catAx>
        <c:axId val="26811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3385"/>
        <c:crosses val="autoZero"/>
        <c:auto val="1"/>
        <c:lblAlgn val="ctr"/>
        <c:lblOffset val="100"/>
        <c:noMultiLvlLbl val="0"/>
      </c:catAx>
      <c:valAx>
        <c:axId val="34933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11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46C-F2AB-459C-B71B-65F71D80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281-4938-4B19-B2FB-742AB7B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C01-45E9-4C6E-B436-702B19F1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7EC-1664-43C5-9908-E105F83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7EA-43FB-4B15-AFA4-6F4EB7A0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98E-DA58-46BB-ADFC-063A864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5C3-27E7-4DC3-95F4-D15E879B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08D-C47C-43ED-A32E-C177EE99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25A-43D8-4FA5-B419-BF0BA6F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9FC-916A-4A00-A014-CD87804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0EB-6B73-4A09-A61F-AC3F934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694-26BC-491F-B6ED-06FC417B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11C34-EBB7-41EA-AF9F-C40FD4D2F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